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9A7-11FD-4DCF-AD77-067FD5DE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EE-A218-446E-8343-A23692F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FEB-C4B5-4ABF-8C90-986AABA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9D9-D8CA-458E-8273-D57366C2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172-0E07-4EE7-A74A-52DE926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91C-4034-4313-8780-7930C693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F4A-6820-404B-8BCB-5BDD4EC4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374-C7E1-4BC6-B209-D51D2438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FEC-B156-4AF0-A988-7BCB4E00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D18-FDAD-4530-B32E-122CBCF0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69C-95A7-4D9D-97A3-9E27CF4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2A3-0219-4318-A46C-44CD8FD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FCF-12BE-4647-AED0-E0659102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id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ila Dahd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sca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=def. for every t and every x, if 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instance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, then there is some instance y of Y at t such that (x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 =def. there is some z such that z is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 and z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8280" y="42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2520" y="478476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efinition in RO_proposed is spatial, not mer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628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65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38120" y="1371600"/>
            <a:ext cx="1295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0200" y="50292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B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040" y="55627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040" y="60958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4720" y="196524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verlaps, rath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inition, avoid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name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9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99072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371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847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portion of axon in 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e that it can be the case that X overlaps Y as thus defined, even though Y does not overlap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us uterine tracts overlaps urinogenital sysem but not uriongenital system OVERLAPS uterine tract (because of male urinogenital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ctually uterine tract is part_of urinogenital system, which raises the question of whether each of X's parts overlaps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verlaps at a fine grain may play a role in the definition of connected_to (keep in m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32:12Z</dcterms:created>
  <dc:creator>Peter E. Midford</dc:creator>
  <dc:description/>
  <dc:language>en-US</dc:language>
  <cp:lastModifiedBy>Peter E. Midford</cp:lastModifiedBy>
  <dcterms:modified xsi:type="dcterms:W3CDTF">2008-05-19T17:20:25Z</dcterms:modified>
  <cp:revision>11</cp:revision>
  <dc:subject/>
  <dc:title>PowerPoint Presentation</dc:title>
</cp:coreProperties>
</file>